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D0F-D85D-40BE-A630-C8DAEE7A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450-6293-47A5-9078-FA32C9B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3CB-0ED3-46AB-935F-334FAED6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734-4B9F-4F73-9EBC-0E6F18F9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507-82B9-415E-8B86-28E361A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6A1-65F6-4A46-9605-2247DE5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ECD-6EA5-45FC-A6F9-DA9EEE6B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2B9-6E50-4B29-A9FF-4C6BA5B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49B-BD6E-43EA-812E-E0CD423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F1B-BADC-4C73-8CB8-B90AB03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189-3026-4E9B-928B-2A839C2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C4C-A741-4A94-8826-BA23A52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8E6-6183-4A6F-BFDB-44DA73C8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48640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76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يسـوع يـا يسـوع      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احلى واطيب قربانة؟  يسـوع يـا يسـوع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    نعمــة ما الهـا تانــي!    اول مرة بحياتي               عـم بتناول هالنعمــ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برفع قلبي ودياتي ربـ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دوقني الط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عطينـي القربانة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227560"/>
            <a:ext cx="1752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358128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ا نطرتو   هاليوم من زمـان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مـري ندرتـو لسر القربـــ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ـارب حبيتــك وبالقلب خبيت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 طـول لبيتك عهد الامانـة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419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34290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ــن قنديلك  قلبي ضويتــو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ـن انجيلــك حبـي رويتــ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رب سلمنـــي الانجيل علمنـ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 طول كلمن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ـــوي ايمانــــ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762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411480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مـــي وابـي    ع الدني طليــ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خـي و اختــي مـن قلبـي صليـ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ـارب خلينـا وبالحب ملينــ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وع الدرب دلينا صــوب القربانـة</a:t>
            </a:r>
            <a:r>
              <a:rPr b="1" lang="ar-SA" sz="4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57:38Z</dcterms:created>
  <dc:creator>SUZANNE.MD</dc:creator>
  <dc:description/>
  <dc:language>en-US</dc:language>
  <cp:lastModifiedBy>HANI SAFI</cp:lastModifiedBy>
  <dcterms:modified xsi:type="dcterms:W3CDTF">2003-04-30T13:47:47Z</dcterms:modified>
  <cp:revision>2</cp:revision>
  <dc:subject/>
  <dc:title>PowerPoint Presentation</dc:title>
</cp:coreProperties>
</file>